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8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4F4-4E6B-4AA6-8CDB-6B814A85F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обрый день уважаемые коллеги! Наша встреча посвящена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психолого-логопедическому сопровождению учащихся с использованием практико-ориентированных материалов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ционно-развивающая программа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Гимнастика для мозг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рограммы «Гимнастика для мозга» лежит представление о том, что ребенок способен развивать себя сам, используя внутренние механизмы свое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вигательно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а. Воздействие комплекса упражнений имеет как немедленный, так и накапливающийся эффект, способствующий повышению умственной работоспособности и оптимизации интеллектуальных процессов. Особое внимание в предлагаемой методике уделено упражнениям, в которых используются одновременные, но разнотипные движения рук, именно они формируют более высокий уровень саморегуляци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AE4-827A-4FBA-80E2-AC8BC566A372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УШ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самомассаж ушных рако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 под счет до пяти вместе с детьми проводит самомассаж ушных раковин: массирующими движениями «вверх и назад» для верхней части уха и «строго вниз» — на мочках. Упражнение повторить 5 раз. После правильно проведенного массажа ушки красне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НОСИ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самомассаж кончика н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счет педагога до десяти дети массируют кончик носа круговыми движениями раскрытой ладошкой вначале правой руки, а затем и левой, но уже под обратный отсчет (от десяти до одного). Упражнение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ЗДРАВСТВУЙТЕ УШКИ!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циклы однородных перекрестных движений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манде педагога «Ушки» дети дважд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крест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ладывают руки на ушки, слегка захватив мочки. Первый раз левую руку — на правое ушко и одновременно с этим правую руку — на левое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 при этом ок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рх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торном 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ании правая рука должна оказаться снизу. Далее может следовать команда «Плечи». После чего дети дважды перекрестно, меняя «верхнюю» руку, захватывают руками именно плечи. Упражнение повторить 10-20 раз, произвольно чередуя команды «Ушки — Плечи — Колени — Лок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упражнения дети следуют тольк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анда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а, а не его движениям, так как ведущий может намеренно «путать» детей 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соответ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УШКО - НОСИК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циклы разнородных перекрестных движений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команды «Ушки» педагог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казывает и называе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менно рука должна коснуться ушка, а какая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крестно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ка. Например, правая — носика, а левая — правого ушка. После фиксации и следующей за ней очередной команды дети меняют положение рук. Теперь левая рука касается носика, а правая — левого ушка. Упражнение повторить 10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ЗЕРКАЛЬЦЕ И ПОЛОЧКА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синхронизация разнородных движений рук с работой глазодвигательных мышц (развитие зрительно-двигательной координ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Зеркальце»— ладонь правой руки раскрыта и поставлена вертикально; большой палец отставлен в сторону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гляд направлен в центр ладо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Полочка» — ладонь правой руки горизонтальна; большой палец руки плот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жа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адони; средний палец приставлен к ребру левой ладони 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зи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манде педагога «полочка», приставленная к «зеркальцу», превращается в «зеркальце» и наоб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упражнения особое значение придается контролю положения головы и глаз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гляд перемещается 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руки на другу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 какого-либо движения голов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УЛАК-РЕБРО-ЛАДОНЬ»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на однородных позиций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Ладонь» — обе руки лежат на коленях ладонями вниз; большие пальцы направлены друг к другу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икас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Ребро» — обе ладош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б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ены на коленях (ладони обращены друг к другу); большие пальц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жаты к ладони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 оставшиеся пальца выпрямлены и плот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жаты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Кулак»  — обе ладошки сжаты в кул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больш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ц прижат к кула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боку)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ачки —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команд педагога в произвольной последовательности дети меняют позиции рук, следу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лючительно команда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а, а не его движениям, так как педагог может намеренно «путать» дете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соответств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х движений и кома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СОЛОНЫШКО  И ТУЧКА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смена разнородных позиций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Солнышко» — правая рука вытянута вперед; ладонь широко раскр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«Тучка» — левая рука вытянута вперед; ладонь сжата в ку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команды педагога дети меняют позиции рук. Упражнение повторить 10-12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ОЛЕЧ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манипуляции с паль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 демонстрирует детям колечки, образованные за счет поочередн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ч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го и одного из четырех пальцев каждой руки — мизинца, среднего и т. 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за этим команды, например, «Указательный», «Безымянный» и т.п., означают, что дети должны образовать колечко между большим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ванны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ц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не тольк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ксим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йствовать в упражнении мизинец и безымянный палец, но и проконтролировать точность образованных при эт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кружност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ИСУЕМ В ВОЗДУХЕ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рисование» в воздухе одновременно обеими руками контуров геометрических фигур или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упра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ариант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е «рисование» обеими рукам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ура (квадрат, солнышко, елочка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е «рисование» каждой рук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дной и той 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гуры (ромб, квадрат, кру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ариант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е рисо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й, 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ных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е фигур. Например, правая рука «рисует» квадрат, а левая — 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УШКА-СО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состоит из двух цикл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вы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— сидя или же стоя; голова повернута в сторон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а (до упора); глаза смотрят вперед; левая рука обхватывает мышц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а; вдох. По команде педагог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а выдох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начинает вытягивать шейку вперед — назад (имитация движений головы совы), постепенно переводя голову от правого плеча к левому и вновь возвращаясь к правому (в исходное положение). При этом каждому вытягиванию шеи вперед соответ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нхрон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е левой рукой мышцы правого плеча, а также «уханье» (крик совы). В данном упражнении выдох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обны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ционным (при «уханье»), и запаса воздуха ребенку должно хватить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, необходимое для перевода головы от правого плеча к левому и обратно в исходное положение. Упражнение повторить 3-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о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и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в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о правой рукой; повернуть голову 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вом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у и выполнить все последующие манипуляции, как указано для первого цикла. Упражнение повторить еще 3-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СУХОЙ ЛИСТИК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рассла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— стоя; ноги на ширине плеч; руки опущены вдоль тела; глаза смотря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ямо перед собо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манде педагога дети начин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лен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ть вниз вначале взгляд, затем голову, плечи и округлять спину. В завершающей фазе упражнения происходит полное расслабление мышц спины, плеч и рук — «листик засох и оторвался от в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ндивидуальной работе комплекс может быть расширен за счет следующих упражнений, приведенных ни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НИВЫЕ ВОСЬМЁРК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ля письма) — «обкатка» контура знака бесконечности («ленивая восьмерка улеглась спать»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еобходимо: — положить лист с заранее нарисованной большой (в предел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я зр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дивиду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) «ленивой восьмеркой» на пол перед ребенком или же нарисовать ее мелом на доске на уровне его глаз; предложить ребенку проехаться по контуру восьмерки маленькой машинкой, начиная от центра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нач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во и вверх, а после пересечения центра — вправо и вверх. Упражнение выполнять вначале левой, а затем и правой рукой, соблюдая всякий ра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оначальное направление дви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влево 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повторить несколько раз (по желанию ребенка) для каждой руки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НИВЫЕ ВОСЬМЁРК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ля глаз) — синхронизация работы рук и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стигается за счет «рисования» в воздухе восьмерки (а ее середина находится на уровне носа) большим пальцем (он показывает, что «все здорово!») вначале левой, а затем и правой руки. Одновременно с этим за движением руки следует и взгляд, для концентрации которого на ноготь большого пальца наклеивается метка красного цвета из изоленты (можно легко переклеить на палец другой ру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нимание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омнить, что в упражнениях этой серии контроль за движением рук осуществляется за счет движения имен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аз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е головы, которая должна оставаться неподвижной на всем пути следования машинки, фишки, мячика или ж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B8F-0B81-4D4A-A314-127DEE8DD587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равильной организации урока, уровня его гигиенической рациональности во многом зависит функциональное состояние школьников в процессе учебной деятельности, возможность длительно поддерживать умственную работоспособность на высоком уровне и предупреждать преждевременное наступление 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редлагаем  вам  группы упражнений направленные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ю работы обоих полушарий и подготовку к усвоению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, растягивающие мышцы тела, помогают удерживать вертикальную позу и не сутулиться, освобождают от напряжения, которое возникает при длительном сидении и ч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, повышающие энергию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упражнения, которые могут быть использованы учителем на каждо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52B-110C-47C1-AC26-D38CB2CBA6CC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С целью развития школьно-значимых функций и коррекции их недостатков, предлагаю вашему вниманию следующие программы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грамма развития зрительного восприятия и памяти, зрительного анализа и синтеза и коррекции их недостат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грамма развития пространственной ориентации, оптико-пространственного анализа и синтеза и коррекции их недостат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грамма развития слухового восприятия и внимания, слухоречевой памяти, фонематического слуха и коррекции их недостат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грамма развития сенсомоторных координаций и коррекции их недостат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грамма развития точных и дифференцированных движений пальцев и кистей рук и коррекции их недостат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Ж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рево настро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на которое дети ежедневно, в конце учебного дня вывешивают разноцветные яб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ый цв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чка обозначает, что у ребёнка настроение прекрас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ё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тавляет желать луч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лё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ечальное, гру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ки дети вешают около своих фотографий. Сразу видно, с кем нужно пошептаться, кому уделить времени больше, а кто может сам своим оптимизмом зарядить товарища. В конце недели интересно посмотреть и проанализировать, для кого из детей неделя была окрашена только красным цветом. У кого были некоторые трудности, а кто очень трудно шёл всю недел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Диагностика самооценки "Самый-самый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редлагает детям бланки, на которых нарисованы лесенки (по десять ступенек в каждо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добрый — самый зл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веселый — самый грус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смелый — самый трусли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умный — самый глуп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говорит детям, что на самой верхней ступеньке лестницы располагаются те дети, у которых качество (например, доброта) выражено в максимальной степени, а на нижней — те, у кого в максимальной степени присутствует противоположное качество (злость). Затем он просит детей оценить себя по этим качествам и поставить букву "Я" на то место, которое соответствует их самооце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ТЧА «Воспитатель-тот же садов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 воспитателя можно сравнить с трудом садовника, выращивающего различные растения. Одно растение любит яркий свет солнца, другое – прохладную тень; одно любит берег ручья, другое – высохшую горную вершину. Одно растение лучше всего произрастает  на песчаной почве, другое – на жирной глинистой.. Каждому нужен особый, только для него подходящий уход, иначе оно не достигнет совершенства в своем 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BA1-F1C2-4B93-A588-2BE3745D2253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рассмотрим 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комплексную программу, способствующую формированию личностной саморегуляции учащихся начальной школы.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знакомимся с перспективным планом психолого-логопедического сопровождения учащихся в педагогической лаборатории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уделим внимание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ррекционно-развивающей деятельности учителя-логопеда и педагога-психолога, а именно программе сопровождения учащихся с нарушениями письменной речи и психологическому курсу развивающих занятий для младших школьников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также проиграем некоторые приемы и упражнения, направленные на формирование саморегуляции учащихся начальной школы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юбящие и небезразличные взрослые, творите вместе и рядом с деть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ндидат педагогических наук, профессор Забрамная С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CCA-EF7A-49DC-9E82-B36631467313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ционно-развивающая программа формирования эмоциональной стабильности и положительной самооценки у детей младшего школьного возраста. «Я учусь владеть собой» Н.П. Слободя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целью этой программы является помощь детям в адаптации к школе, что подразумевает  развитие эмоциональной регуляции поведения детей, предупреждение и снижение тревожности и страхов, повышение уверенности в себ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роятся в доступной и интересной форме. В основном используются следующие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митационные и ролевые иг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сихогимнас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чные мет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групповой диску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и приемы саморегуля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истема представленных на занятиях задач и упражнений позволяет решать все три аспекта цели: познавательный, развивающий и воспитывающий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ознавательный аспект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Формирование и развитие различных видов памяти, внимания, воображения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Формирование и развитие общеучебных умений и навыков (умение работать с книгой в заданном темпе самостоятельно, умение контролировать и оценивать свою работу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ющий аспект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ие речи при работе над словом, словосочетанием, предложение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ие мыжления в ходе усвоения таких приемов мыслительной деятельности, как умение анализировать, сравнивать, синтезировать, обобщать, выделять главное, доказывать и опровергать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ие двигательной сферы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итывающий аспект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итание системы нравственных межличностных отношений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данной программе описаны более 350 психологических заданий, направленных на развитие познавательных процессов, пространственных представлений, психологических предпосылок овладения учебной деятельностью, психологических новообразований младшего школьного возраста. Программа состоит из 2-х частей6 книги для учителя и материалов к урокам  психологического развит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вашему вниманию психотехнические упражнения, игры, игры-разминки, которые могут быть использованы вами, а также учителем, воспитателем ГПД в учебно-воспитательной деятельности с целью развития познавательной и эмоционально-волевой сфер учащихся,  навыков адекватного социального поведения, активизации познавательной активности и снятия возбуждения и импульс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3. Комплекс упражнений, заданий, игр направленных на  развитие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4. Комплекс игр, заданий, упражнений направленных на развитие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5. Комплекс упражнений, заданий, игр способствующих развитию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6. Комплекс упражнений, игр, заданий направленных на развитие связной 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7. Набор игр-разминок на активизацию детей, для включения ребят в совмест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8. ПРИМЕРНЫЙ НАБОР ИГР-РАЗМИНОК ДЛЯ УСПОКОЕНИЯ ДЕТЕЙ, СНЯТИЯ ВОЗБУЖДЕНИЯ И ИМПУЛЬ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снову в коррекционно-развивающих занятиях педагога-психолога был взят психологический курс развивающих занятий для младших школьников «Я учусь учиться» Князевой. Данная программа рассчитана на 2 года обучения (3 и 4 клас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ервая часть курса (3-й класс) рассчитана на коррекцию и формирование интеллектуально-психических свойств ребенка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Развитие навыков произвольного внимания и вос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ирование приемов образного и логического запоминания. Расширение объема памя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е приемам аналитико-синте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рефлексивно-регулятивных и контрольно-оценоч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комство с приемами целеполагания и планирования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ирование связной и последовательной речи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а 2-м этапе обучения (4 класс) Коррекция и развитие основных интеллектуально-познавательных функци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бучение способам решения интеллектуально-познавательных задач (на основе формирования учебных действий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Формирование социально-коммуникативных действи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Формирование общих представлений учащихся о характере учебной деятельности в основной школе и развитие приемов адаптивного поведения при переходе на вторую ступен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68F-F6FF-4596-B3F1-D869E5E6E8AF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0B8-5E80-45D8-8C94-6B456C45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DD1-34A2-43D6-8F2C-529B593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A31-BD52-4A0F-8E0C-B998C4ED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F85-8128-46C4-8259-D97721BF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EABB-C049-4ED8-A68E-21A06FF9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BBD-9E88-4859-BFAA-E4ABD7F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8C88-E8A3-4A62-B674-EF9FC2D4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514-5BA9-4418-8F48-CEBBD12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1446-EA86-4A84-A0F6-02E17145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F1B9-CB1B-42F5-910A-CEE736C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843D-8732-4610-AD82-496B6D1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6A7-503B-483B-8F1C-4ED1068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C26-AD4C-4FBA-83A1-59EF1B1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7BE-C818-4738-B921-90872B3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26AE-AD45-4CC9-9E74-7DA4D4D2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F58-3F07-4637-AFFF-BB135D82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80E-2F3C-4EDF-A1FA-153E2C1F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D69-E11E-4C53-953F-C12149F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723-BC96-486A-A3A1-DD1A9BB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AEB-8176-4A71-AE57-81F5990A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573-B736-45D6-B74F-D1B0054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BC1-0EBD-422E-89A1-87C4727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25B-8BAE-4CEA-BDE8-148AFCC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711-ADFE-439F-8066-0C57E4E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0AC-035D-477C-89CD-DDBE7ED7DDB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A42-B10F-4887-937C-F7BE20591A1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f7f7f"/>
                </a:solidFill>
                <a:latin typeface="Verdana"/>
              </a:rPr>
              <a:t>МАСТЕР-КЛАСС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ирование личностной саморегуляции в процессе обучения детей в начальной школе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» </a:t>
            </a:r>
            <a:br>
              <a:rPr sz="4800"/>
            </a:br>
            <a:br>
              <a:rPr sz="28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ЕМИНАР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-ПРАКТИКУМ</a:t>
            </a:r>
            <a:br>
              <a:rPr sz="4000"/>
            </a:b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сихолого-логопедическое сопровождение учащихся с использованием практико-ориентированных материалов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»</a:t>
            </a:r>
            <a:br>
              <a:rPr sz="4000"/>
            </a:br>
            <a:br>
              <a:rPr sz="24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5" descr="j0301252"/>
          <p:cNvPicPr/>
          <p:nvPr/>
        </p:nvPicPr>
        <p:blipFill>
          <a:blip r:embed="rId1"/>
          <a:stretch/>
        </p:blipFill>
        <p:spPr>
          <a:xfrm>
            <a:off x="7313760" y="529272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76" name="Подзаголовок 2"/>
          <p:cNvSpPr/>
          <p:nvPr/>
        </p:nvSpPr>
        <p:spPr>
          <a:xfrm>
            <a:off x="0" y="4419720"/>
            <a:ext cx="480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Учитель-логопед Колодий Л.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едагог-психолог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Кирик Л.П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61760" y="1600200"/>
            <a:ext cx="7924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оррекционно-развивающа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грамм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«Гимнастика для мозга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Автор – Ильичева О.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сновной комплекс упражн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Ушк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Носик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Здравствуйте, ушки!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Ушко-носи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Зеркальце и полочк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Кулак-ребро-ладонь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Солнышко и тучк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Колечк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Рисуем в воздухе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Совушка-сов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Сухой листи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Ленивые восьмерки» (для письма и для глаз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6" descr="305"/>
          <p:cNvPicPr/>
          <p:nvPr/>
        </p:nvPicPr>
        <p:blipFill>
          <a:blip r:embed="rId1"/>
          <a:stretch/>
        </p:blipFill>
        <p:spPr>
          <a:xfrm>
            <a:off x="7924680" y="5181480"/>
            <a:ext cx="12193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«Гимнастика мозга»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- представляет собой систему быстрых, простых и занимательных физических движений, упражнений и приемов, которые направлены на улучшение способности к обучению и качество исполнения любой деятельности; снижают стресс, улучшают общее состояние здоровья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Рисунок 2" descr="C:\Users\1\Desktop\100CANON\IMG_0551.JPG"/>
          <p:cNvPicPr/>
          <p:nvPr/>
        </p:nvPicPr>
        <p:blipFill>
          <a:blip r:embed="rId1"/>
          <a:stretch/>
        </p:blipFill>
        <p:spPr>
          <a:xfrm>
            <a:off x="4572000" y="1066680"/>
            <a:ext cx="4191120" cy="2768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C:\Users\1\Desktop\100CANON\IMG_0554.JPG"/>
          <p:cNvPicPr/>
          <p:nvPr/>
        </p:nvPicPr>
        <p:blipFill>
          <a:blip r:embed="rId2"/>
          <a:stretch/>
        </p:blipFill>
        <p:spPr>
          <a:xfrm>
            <a:off x="4572000" y="3809880"/>
            <a:ext cx="4218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РОФИЛАКТИКА ШКОЛЬНЫХ ТРУДНОСТЕЙ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0666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грамма развития зрительного восприятия и памяти, зрительного анализа и синтеза и коррекции их недостатков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грамма развития пространственной ориентации, оптико-пространственного анализа и синтеза и коррекции их недостатков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грамма развития слухового восприятия и внимания, слухоречевой памяти, фонематического слуха и коррекции их недостатков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грамма развития сенсомоторных координаций и коррекции их недостатков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грамма развития точных и дифференцированных движений пальцев и кистей рук и коррекции их недостатков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51920"/>
            <a:ext cx="82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ОЦЕНКА РЕЗУЛЬТАТОВ СВОЕЙ ДЕЯТЕЛЬНОСТИ или эмоционального состояния и др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Calibri"/>
              </a:rPr>
              <a:t>«Дерево настроени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ый добр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Рисунок 5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0" y="586836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ый зло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103320"/>
            <a:ext cx="8929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ПРИТЧ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«Воспитатель-тот же садовник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14200" y="1600200"/>
            <a:ext cx="8472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уд воспитателя можно сравнить с трудом садовника, выращивающего различные растения. Одно растение любит яркий свет солнца, другое – прохладную тень; одно любит берег ручья, другое – высохшую горную вершину. Одно растение лучше всего произрастает  на песчаной почве, другое – на жирной глинистой.. Каждому нужен особый, только для него подходящий уход, иначе оно не достигнет совершенства в своем развит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. Пезешкиан из книги «Торговец и попугай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Picture 4" descr="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WordArt 4"/>
          <p:cNvSpPr txBox="1"/>
          <p:nvPr/>
        </p:nvSpPr>
        <p:spPr>
          <a:xfrm>
            <a:off x="1295280" y="838080"/>
            <a:ext cx="65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d6e7f3"/>
                  </a:solidFill>
                  <a:miter/>
                </a:ln>
                <a:gradFill rotWithShape="0">
                  <a:gsLst>
                    <a:gs pos="0">
                      <a:srgbClr val="fdfeff"/>
                    </a:gs>
                    <a:gs pos="100000">
                      <a:srgbClr val="edfaff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24480">
                  <a:solidFill>
                    <a:srgbClr val="d6e7f3"/>
                  </a:solidFill>
                  <a:miter/>
                </a:ln>
                <a:gradFill rotWithShape="0">
                  <a:gsLst>
                    <a:gs pos="0">
                      <a:srgbClr val="fdfeff"/>
                    </a:gs>
                    <a:gs pos="100000">
                      <a:srgbClr val="edfaff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_________ __ ________   </a:t>
            </a:r>
            <a:endParaRPr b="1" lang="en-US" sz="1800" spc="1" strike="noStrike">
              <a:ln w="24480">
                <a:solidFill>
                  <a:srgbClr val="d6e7f3"/>
                </a:solidFill>
                <a:miter/>
              </a:ln>
              <a:gradFill rotWithShape="0">
                <a:gsLst>
                  <a:gs pos="0">
                    <a:srgbClr val="fdfeff"/>
                  </a:gs>
                  <a:gs pos="100000">
                    <a:srgbClr val="edfaff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0" y="3048120"/>
            <a:ext cx="9144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7d7d7d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Желаем творческих успехов!!!</a:t>
            </a:r>
            <a:endParaRPr b="1" lang="en-US" sz="1800" spc="1" strike="noStrike">
              <a:ln w="10440">
                <a:solidFill>
                  <a:srgbClr val="7d7d7d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701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ДЕРЖАНИЕ </a:t>
            </a:r>
            <a:br>
              <a:rPr sz="3200"/>
            </a:b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актико-ориентированного семинар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200" spc="-1" strike="noStrike">
                <a:solidFill>
                  <a:srgbClr val="006699"/>
                </a:solidFill>
                <a:latin typeface="Verdana"/>
              </a:rPr>
              <a:t>Комплексная программа, способствующая формированию личностной саморегуляции учащихся начальной школы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ерспективный план психолого-логопедического сопровождения учащихся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Коррекционно-развивающая деятельность учителя-логопеда в педагогической лаборатори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Коррекционно-развивающая деятельность педагога-психолога в педагогической лаборатори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роигрывание приемов и упражнений, способствующих формированию саморегуляции учащихся начальной школы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Формы работ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ини-лекция, комплексы упражнений и приемов работы с учащимися, раздаточный дидактический материа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j0299125"/>
          <p:cNvPicPr/>
          <p:nvPr/>
        </p:nvPicPr>
        <p:blipFill>
          <a:blip r:embed="rId1"/>
          <a:stretch/>
        </p:blipFill>
        <p:spPr>
          <a:xfrm>
            <a:off x="8001000" y="5181480"/>
            <a:ext cx="11430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Любящие и небезразличные взрослые, творите вместе и рядом с детьм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Кандидат педагогических наук, профессор Забрамная С. 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02960"/>
            <a:ext cx="8915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Удивляюсь, злюсь, боюсь, хвастаюсь и радуюсь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оррекционно-развивающая программа формирования эмоциональной стабильности и положительной самооценки у детей младшего школьного возраста. «Я учусь владеть собой» Н.П. Слободяни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4" descr="AG00315_"/>
          <p:cNvPicPr/>
          <p:nvPr/>
        </p:nvPicPr>
        <p:blipFill>
          <a:blip r:embed="rId1"/>
          <a:stretch/>
        </p:blipFill>
        <p:spPr>
          <a:xfrm>
            <a:off x="5257800" y="1905120"/>
            <a:ext cx="35542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440" y="228240"/>
            <a:ext cx="85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ЮНЫМ УМНИКАМ И УМНИЦАМ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О. Холодо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Модель занятия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мин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озговая гимнастик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ренировка психических механизмов  (памяти, внимания, воображения, мышления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еселая перемен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строение предметных картинок, штрихов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120 уроков психологического развития младших школьников Н.П. Локалово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82880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99"/>
                </a:solidFill>
                <a:latin typeface="Verdana"/>
              </a:rPr>
              <a:t>Психологическая программа развития когнитивной сферы учащихся </a:t>
            </a:r>
            <a:r>
              <a:rPr b="1" lang="en-US" sz="3400" spc="-1" strike="noStrike">
                <a:solidFill>
                  <a:srgbClr val="006699"/>
                </a:solidFill>
                <a:latin typeface="Verdana"/>
              </a:rPr>
              <a:t>I-IV </a:t>
            </a:r>
            <a:r>
              <a:rPr b="1" lang="ru-RU" sz="3400" spc="-1" strike="noStrike">
                <a:solidFill>
                  <a:srgbClr val="006699"/>
                </a:solidFill>
                <a:latin typeface="Verdana"/>
              </a:rPr>
              <a:t>класс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5" descr="G:\Новая папка\Image_ashx(1).jpg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4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сихотехнические упражнения, игры, игры-размин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Психотехнические упражнения, игры, игры-разминки способствуют развитию познавательной и эмоционально-волевой сфер учащихся,  навыков адекватного социального поведения; способствуют активизации познавательной активности и снятия возбуждения и импульсивности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Рисунок 5" descr="C:\Users\1\Desktop\100CANON\IMG_0575.JPG"/>
          <p:cNvPicPr/>
          <p:nvPr/>
        </p:nvPicPr>
        <p:blipFill>
          <a:blip r:embed="rId1"/>
          <a:stretch/>
        </p:blipFill>
        <p:spPr>
          <a:xfrm>
            <a:off x="4572000" y="22096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Психологический курс развивающих занятий для младших школьник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«Я учусь учиться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Автор – Т.Н. Князев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«Я учусь учиться»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837720"/>
            <a:ext cx="8534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370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ервая часть курса (3-й класс) рассчитана на коррекцию и формирование интеллектуально-психических свойств ребенка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- Развитие навыков произвольного внимания и восприятия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176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Формирование приемов образного и логического запоминания. Расширение объема памяти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176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бучение приемам аналитико-синтетической деятельности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176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Развитие рефлексивно-регулятивных и контрольно-оценочных действий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176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Знакомство с приемами целеполагания и планирования деятельности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1168560" indent="-1764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Формирование связной и последовательной речи учащих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На 2-м этапе обучения (4 класс) Коррекция и развитие основных интеллектуально-познавательных функц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бучение способам решения интеллектуально-познавательных задач (на основе формирования учебных действий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Формирование социально-коммуникативных действ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Формирование общих представлений учащихся о характере учебной деятельности в основной школе и развитие приемов адаптивного поведения при переходе на вторую ступен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812880" indent="-370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4-03-20T05:11:49Z</dcterms:modified>
  <cp:revision>3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